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3789-1AB5-46AC-B90A-403B7E33B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6CB6-17B2-4255-AFBA-D2343BBEA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8248-BE85-46EE-BA8D-487BCC5C3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1E80-F0B1-461E-814F-2A7E03589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821F-6883-47AB-99F0-9838EC6C7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7009-22F5-4644-9847-C6DC4D9BD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B2E0-AA54-4562-80BA-C4D281DEA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FF84-5F21-4129-8CC0-45E1F3869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058E-43E3-4A40-8C6E-B740C1E02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4257-529A-410A-9B15-DA70B884C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EC9E-AE75-4CA8-9BDA-00948628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44C1-020B-445B-BFC5-970C31B8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558EC-7805-48A9-9E64-163BD04742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Comic Sans MS"/>
              </a:rPr>
              <a:t>First Grade High Frequency Words (List 3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tw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wen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mothe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jus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to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whe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wer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ove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the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will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ther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ask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wit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unde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cam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ye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pleas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will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th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becaus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going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wher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thi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coul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befor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1T15:34:00Z</dcterms:created>
  <dc:creator>Jennifer Dalton</dc:creator>
  <dc:description/>
  <dc:language>en-US</dc:language>
  <cp:lastModifiedBy>Jennifer Dalton</cp:lastModifiedBy>
  <dcterms:modified xsi:type="dcterms:W3CDTF">2011-10-31T11:29:43Z</dcterms:modified>
  <cp:revision>3</cp:revision>
  <dc:subject/>
  <dc:title>First Grade High Frequency Words (List 1)</dc:title>
</cp:coreProperties>
</file>